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9BED-66EE-4289-B782-E577D55043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7B10-C3FA-4936-96D6-62DB3EA54E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B431-9D9E-4830-A203-4CC33B21CE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F835-D4A8-4669-98B9-71FA5563D6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9049-7A4B-4473-A745-CA4B633E6E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3A41-2034-4E9B-BE5F-0F5E407011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C006-DA8F-4486-8960-7833ADE65F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A820D-7758-47C5-B203-5719F2076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3911D-3B14-4D19-81BC-AFF1B4490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D7A89-4A6A-4176-BA80-E4026BC65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83716-E768-4C5C-82C5-33527DD20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673B7-2008-457B-B84E-95B2D3ED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45568-CCE4-4A0C-8D6D-04EB57E36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1F0BD-A484-40DB-BE50-514065D36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D15DF-D2FD-4CAA-9894-E6440F6D7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52018-1192-479E-B0A9-A686E22EA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1A24-AFC1-47C5-9DA1-6CE6C517F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B2FB6-FCFB-41CC-9BB2-9904ADA9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CD5A-9135-4670-9F5C-CB40E08D6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DC89-8F8D-46CF-95CA-CF80A2B2B6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ethics.state.tx.us/" TargetMode="External"/><Relationship Id="rId2" Type="http://schemas.openxmlformats.org/officeDocument/2006/relationships/hyperlink" Target="http://www.texastribune.org/texas-state-agencies/texas-ethics-commission/" TargetMode="External"/><Relationship Id="rId3" Type="http://schemas.openxmlformats.org/officeDocument/2006/relationships/hyperlink" Target="http://en.wikipedia.org/wiki/Texas_Ethics_Commission"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lc.state.tx.us/redist/process_lrb.html" TargetMode="External"/><Relationship Id="rId2" Type="http://schemas.openxmlformats.org/officeDocument/2006/relationships/hyperlink" Target="http://www.texastribune.org/texas-redistricting/legislative-redistricting-board/"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lrl.state.tx.us/index.cfm" TargetMode="External"/><Relationship Id="rId2" Type="http://schemas.openxmlformats.org/officeDocument/2006/relationships/hyperlink" Target="http://www.lrl.state.tx.us/sessions/billStatistics.cfm"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tatutes.legis.state.tx.us/Docs/CN/htm/CN.3.htm" TargetMode="External"/><Relationship Id="rId2" Type="http://schemas.openxmlformats.org/officeDocument/2006/relationships/hyperlink" Target="http://www.tshaonline.org/handbook/online/articles/TT/mkt2.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arlton.law.utexas.edu/constitutions/text/IART03.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Superconducting_Super_Collider"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lrl.state.tx.us/whatsNew/client/index.cfm/2011/2/28/FAQs-about-the-Economic-Stabilization-Rainy-Day-Fund"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Legislatur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ghl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contains the vest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 establishes the size of each chamber – the U.S. Constitution has no such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3 and 4 establish the term lengths for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 establishes that the legislature meets every two years, and establishes rules for the consideration of bills. None can be considered for the first 30 days, but it states that the Governor can declare certain bills “emergency matters” meaning that they 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6 and 7 states the qualifications for Senators and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8 states that each chamber can judge the qualifications of their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9 establishes the position of Speaker and defines the powers of the Lieutenant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0 states that a 2/3rds quorum is necessary to conduct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1 allows each chamber to punish and expel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Design of the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 mandates that each chamber keep a journal of its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3 mandates that the Governor issue writs of elections if vacancies occur in eithe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4 privileges members from arrest during th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5 allows each chamber to punish members for disorderly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6 mandates that sessions be open to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7 concerns adjou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18 and 19 prevents members from holding other government offices, and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0 places limits on tax collectors holding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1 states that debates on the floor cannot be questioned in any othe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2 prevents members who have a stake in an issue from voting o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3 reinforces the residency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4 establishes the salary of members, allows them to receive a per diem rates when in session and mandates that sessions be 140 days 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4a establishes the </a:t>
            </a:r>
            <a:r>
              <a:rPr b="0" lang="en-US" sz="4400" spc="-1" strike="noStrike" u="sng">
                <a:solidFill>
                  <a:srgbClr val="0000ff"/>
                </a:solidFill>
                <a:uFillTx/>
                <a:latin typeface="Calibri"/>
                <a:hlinkClick r:id="rId1"/>
              </a:rPr>
              <a:t>Texas Ethics Commissio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EC: </a:t>
            </a:r>
            <a:r>
              <a:rPr b="0" lang="en-US" sz="4400" spc="-1" strike="noStrike" u="sng">
                <a:solidFill>
                  <a:srgbClr val="0000ff"/>
                </a:solidFill>
                <a:uFillTx/>
                <a:latin typeface="Calibri"/>
                <a:hlinkClick r:id="rId2"/>
              </a:rPr>
              <a:t>Texas Tribune</a:t>
            </a:r>
            <a:br>
              <a:rPr sz="4400"/>
            </a:br>
            <a:r>
              <a:rPr b="0" lang="en-US" sz="4400" spc="-1" strike="noStrike">
                <a:solidFill>
                  <a:srgbClr val="000000"/>
                </a:solidFill>
                <a:latin typeface="Calibri"/>
              </a:rPr>
              <a:t>TEC: </a:t>
            </a:r>
            <a:r>
              <a:rPr b="0" lang="en-US" sz="4400" spc="-1" strike="noStrike" u="sng">
                <a:solidFill>
                  <a:srgbClr val="0000ff"/>
                </a:solidFill>
                <a:uFillTx/>
                <a:latin typeface="Calibri"/>
                <a:hlinkClick r:id="rId3"/>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5 concerns senatori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6 modifies how house districts are apportioned across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7 states that elections for each chamber shall be the same throughout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8 clarifies the apportionment process and establishes the </a:t>
            </a:r>
            <a:r>
              <a:rPr b="0" lang="en-US" sz="4400" spc="-1" strike="noStrike" u="sng">
                <a:solidFill>
                  <a:srgbClr val="0000ff"/>
                </a:solidFill>
                <a:uFillTx/>
                <a:latin typeface="Calibri"/>
                <a:hlinkClick r:id="rId1"/>
              </a:rPr>
              <a:t>Legislative Redistricting Board</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LRB: </a:t>
            </a:r>
            <a:r>
              <a:rPr b="0" lang="en-US" sz="4400" spc="-1" strike="noStrike" u="sng">
                <a:solidFill>
                  <a:srgbClr val="0000ff"/>
                </a:solidFill>
                <a:uFillTx/>
                <a:latin typeface="Calibri"/>
                <a:hlinkClick r:id="rId2"/>
              </a:rPr>
              <a:t>Texas Tribun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9 states that all laws begin with the phrase: "Be it enacted by the Legislature of the State of Texas.“</a:t>
            </a:r>
            <a:br>
              <a:rPr sz="4400"/>
            </a:br>
            <a:br>
              <a:rPr sz="4400"/>
            </a:br>
            <a:r>
              <a:rPr b="0" lang="en-US" sz="4400" spc="-1" strike="noStrike">
                <a:solidFill>
                  <a:srgbClr val="000000"/>
                </a:solidFill>
                <a:latin typeface="Calibri"/>
              </a:rPr>
              <a:t>This section begins a series that cover the details of the bill making proces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bills passed in the state can be found in the </a:t>
            </a:r>
            <a:r>
              <a:rPr b="0" lang="en-US" sz="4400" spc="-1" strike="noStrike" u="sng">
                <a:solidFill>
                  <a:srgbClr val="0000ff"/>
                </a:solidFill>
                <a:uFillTx/>
                <a:latin typeface="Calibri"/>
                <a:hlinkClick r:id="rId1"/>
              </a:rPr>
              <a:t>Legislative Reference Library’s</a:t>
            </a:r>
            <a:r>
              <a:rPr b="0" lang="en-US" sz="4400" spc="-1" strike="noStrike">
                <a:solidFill>
                  <a:srgbClr val="000000"/>
                </a:solidFill>
                <a:latin typeface="Calibri"/>
              </a:rPr>
              <a:t> section on </a:t>
            </a:r>
            <a:r>
              <a:rPr b="0" lang="en-US" sz="4400" spc="-1" strike="noStrike" u="sng">
                <a:solidFill>
                  <a:srgbClr val="0000ff"/>
                </a:solidFill>
                <a:uFillTx/>
                <a:latin typeface="Calibri"/>
                <a:hlinkClick r:id="rId2"/>
              </a:rPr>
              <a:t>Bill Statistic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ly bill that the legislature has to pass is the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a:t>
            </a:r>
            <a:r>
              <a:rPr b="0" lang="en-US" sz="4400" spc="-1" strike="noStrike" u="sng">
                <a:solidFill>
                  <a:srgbClr val="0000ff"/>
                </a:solidFill>
                <a:uFillTx/>
                <a:latin typeface="Calibri"/>
                <a:hlinkClick r:id="rId1"/>
              </a:rPr>
              <a:t>_x000b__x000b_Article Three of the _x000b_Texas Constitution</a:t>
            </a:r>
            <a:br>
              <a:rPr sz="4400"/>
            </a:br>
            <a:br>
              <a:rPr sz="4400"/>
            </a:br>
            <a:r>
              <a:rPr b="0" lang="en-US" sz="2000" spc="-1" strike="noStrike">
                <a:solidFill>
                  <a:srgbClr val="000000"/>
                </a:solidFill>
                <a:latin typeface="Calibri"/>
              </a:rPr>
              <a:t>You might want to also read the </a:t>
            </a:r>
            <a:r>
              <a:rPr b="0" lang="en-US" sz="2000" spc="-1" strike="noStrike" u="sng">
                <a:solidFill>
                  <a:srgbClr val="0000ff"/>
                </a:solidFill>
                <a:uFillTx/>
                <a:latin typeface="Calibri"/>
                <a:hlinkClick r:id="rId2"/>
              </a:rPr>
              <a:t>legislature’s _x000b_entry</a:t>
            </a:r>
            <a:r>
              <a:rPr b="0" lang="en-US" sz="2000" spc="-1" strike="noStrike">
                <a:solidFill>
                  <a:srgbClr val="000000"/>
                </a:solidFill>
                <a:latin typeface="Calibri"/>
              </a:rPr>
              <a:t> in the Handbook of Texas Onli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0 states that laws must be passed in the form of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1 allows bills to originate in eithe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2 states that bills have to be read on three several days in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3 mandates that revenue bills begin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4 bills once defeated, cannot be reintroduced th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5 bills can only contain on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6 concerns the revision of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7 states that bills must be reported out of committee at least 3 days before the adjournment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8 mandates that bills passed by each chamber be signed by the presiding officer of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9 states that laws passed by the legislature go into effect 90 days after the end of th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link to the original wording</a:t>
            </a:r>
            <a:r>
              <a:rPr b="0" lang="en-US" sz="4400" spc="-1" strike="noStrike">
                <a:solidFill>
                  <a:srgbClr val="000000"/>
                </a:solidFill>
                <a:latin typeface="Calibri"/>
              </a:rPr>
              <a:t> of Article 3 of the 1876 Constitution.</a:t>
            </a:r>
            <a:br>
              <a:rPr sz="4400"/>
            </a:br>
            <a:br>
              <a:rPr sz="4400"/>
            </a:br>
            <a:r>
              <a:rPr b="0" lang="en-US" sz="4400" spc="-1" strike="noStrike">
                <a:solidFill>
                  <a:srgbClr val="000000"/>
                </a:solidFill>
                <a:latin typeface="Calibri"/>
              </a:rPr>
              <a:t>It had </a:t>
            </a:r>
            <a:br>
              <a:rPr sz="4400"/>
            </a:br>
            <a:r>
              <a:rPr b="0" lang="en-US" sz="4400" spc="-1" strike="noStrike">
                <a:solidFill>
                  <a:srgbClr val="000000"/>
                </a:solidFill>
                <a:latin typeface="Calibri"/>
              </a:rPr>
              <a:t>58 Sections and </a:t>
            </a:r>
            <a:br>
              <a:rPr sz="4400"/>
            </a:br>
            <a:r>
              <a:rPr b="0" lang="en-US" sz="4400" spc="-1" strike="noStrike">
                <a:solidFill>
                  <a:srgbClr val="000000"/>
                </a:solidFill>
                <a:latin typeface="Calibri"/>
              </a:rPr>
              <a:t>3,809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0 states that special sessions can only focus on the subject the legislature was called to cons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1 states that all votes – except for those for officers – shall be by voice vote. Votes for Speaker are by secret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2 was repea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3 modifies the process for revising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4 concerns compensation for all officers not cover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5 allows for changes of venue in criminal and civil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6 States that all fees must be collected uniform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7 allows for laws to be passed regarding lotteries and regulating bingo gam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8 has been repealed with the exception of a section relating to emergence service, and jai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 prohibits the states from creating debt unless due to certain circumstances described in the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urrent version, the article contains 67 Sections and 29,5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a requires the Comptroller of Public Accounts to provide to the Governor and Legislature an accounting of the financial condition of the state prior to each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b establishes the Veteran’s Land Fund and the Veteran’s Housing Assistance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c establishes that Texas Water Development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d (the longest in the article) concerns Water Development Board and authorizes the sale of bonds for that purp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e concerns the Texas Park Development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f provides for bonds to be sold to provide assistance for the purchase of farm and ranch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g was initially intended to provide funding for the </a:t>
            </a:r>
            <a:r>
              <a:rPr b="0" lang="en-US" sz="4400" spc="-1" strike="noStrike" u="sng">
                <a:solidFill>
                  <a:srgbClr val="0000ff"/>
                </a:solidFill>
                <a:uFillTx/>
                <a:latin typeface="Calibri"/>
                <a:hlinkClick r:id="rId1"/>
              </a:rPr>
              <a:t>Superconducting Super Collid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g now concerns the Economic Stabilization Fund (</a:t>
            </a:r>
            <a:r>
              <a:rPr b="0" lang="en-US" sz="4400" spc="-1" strike="noStrike" u="sng">
                <a:solidFill>
                  <a:srgbClr val="0000ff"/>
                </a:solidFill>
                <a:uFillTx/>
                <a:latin typeface="Calibri"/>
                <a:hlinkClick r:id="rId1"/>
              </a:rPr>
              <a:t>the Rainy Day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h allows for bonds to be sold to build prisons and mental health fac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i allows for bonds to be sold to establish the Texas Agricultura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ntains language defining more clearly how the House and Senate operate internally and how bills becom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j places limits on additional state debt beyond what is allowed in the preceding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k establishes the Texas Mobility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l allows for assistance for building roads to serve colon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m and n allows for funding highway projects as well as projects aimed at benefiting defense related co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o allows for funding the Texas Rail and Relocation Improvement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p allows for additional highway construction pro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0 limits the ability of the state to provide credit and related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0a allows for the creation of the State Medical Educational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0b-4, 5 and 6 allow for student lo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0c, d, e, f and g provide for loans related to agriculture and maintenance and repai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provisions are very similar to those in the U.S. Constitution. </a:t>
            </a:r>
            <a:br>
              <a:rPr sz="4400"/>
            </a:br>
            <a:br>
              <a:rPr sz="4400"/>
            </a:br>
            <a:r>
              <a:rPr b="0" lang="en-US" sz="4400" spc="-1" strike="noStrike">
                <a:solidFill>
                  <a:srgbClr val="000000"/>
                </a:solidFill>
                <a:latin typeface="Calibri"/>
              </a:rPr>
              <a:t>But many a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1 prevents the legislature form making grants to individuals or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1a – g authorize various forms of assist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2 a – k concern the relationship between the state and smaller,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3 prevents the state from granting the power to grant extra fees and compensation after services have been rend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5 prevents the state from negating indebtedness on the part of an individual or corpo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6 places limits on the local laws and special that can be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7 states that local laws passed by the legislature cannot be passed unless notice is given in the locality affected by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8 states the seat of government is Aust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9 and 60 allows for the establishment of Workers’ Compensation Insur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1a establishes minimum salaries for executive office hol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 has been heavily amended since it was originally ratif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2 relates to the continuity of state and local government in the event of a disa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3 was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4 allows for the consolidation of governmental offices within 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5 places a limit on the interest rates on bonds issued by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6 places limits on liability for noneconomic dam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7 allows for the establishment of and funding for the Cancer Prevention and Research Institu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15:50:03Z</dcterms:created>
  <dc:creator>Kevin Jefferies</dc:creator>
  <dc:description/>
  <dc:language>en-US</dc:language>
  <cp:lastModifiedBy>Kevin Jefferies</cp:lastModifiedBy>
  <dcterms:modified xsi:type="dcterms:W3CDTF">2012-01-30T03:39:09Z</dcterms:modified>
  <cp:revision>116</cp:revision>
  <dc:subject/>
  <dc:title>PowerPoint Presentation</dc:title>
</cp:coreProperties>
</file>